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64E-6475-4E7F-A9C3-A4D5B687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FDB-9475-4D05-9DEA-B5A5A847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259-8F64-4FB7-AE78-EADCBCDB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573-4658-4D75-9B21-2BE35687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C45-0F3D-4A85-8347-B2F1BFC2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1BA-6608-4F5B-990A-4DF74961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C15-65C5-4524-9924-0FB3D908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FAD-5EDE-4962-A595-FB531322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134-BE2D-479F-8B7A-9A6C7194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741-052C-4B22-AEFB-4CDDBED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662-E258-407A-ACD5-86B4C4F9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4C0-E0F1-43AC-B4C0-A7AFE1B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A156-A0F8-4EA6-9F49-10B9D3E3115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La chanson de la ga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71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une : I do like to be beside the seasi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571680" y="0"/>
            <a:ext cx="8072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À quelle heure part le prochain train pour Pari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À quelle heure part le train pour Carcassonne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Le train qui arrive quai numéro di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Est le TGV numéro deux cent six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On laisse les bagages à la consig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Achète les billets au guiche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Ah bonjour, Madame, bonjour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aller simple ou aller retour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Et bon voyage et bonne journée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2:14:50Z</dcterms:created>
  <dc:creator>Teacher</dc:creator>
  <dc:description/>
  <dc:language>en-US</dc:language>
  <cp:lastModifiedBy>Teacher</cp:lastModifiedBy>
  <dcterms:modified xsi:type="dcterms:W3CDTF">2010-02-23T22:23:10Z</dcterms:modified>
  <cp:revision>1</cp:revision>
  <dc:subject/>
  <dc:title>La chanson de la gare</dc:title>
</cp:coreProperties>
</file>